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FA8-9D07-4951-B4E4-06B4C447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D3C-3195-4FE2-83BA-FEB88582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90E-0754-4878-8E8A-54413E0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ACD-8305-4DD1-ADD8-2991D4F3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357-A997-4FCD-A043-DBD9D00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371-ED2E-4DEB-8D15-03E64C7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50E-5260-419E-BFDC-10BB1D0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E82-9C86-4B70-AA3F-1097AE9A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E22-9542-485E-944B-E03AEAAA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B8F-3F53-4FF9-945C-F5E41B9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1FB-DA55-44F3-BBF3-98C16E8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22F-74A2-4F4F-AEAF-CC64909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07D6-C27F-47BE-AF7C-18C85AE0F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9760" y="1868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Adding and Subtracting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0010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divide by 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763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3668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3962520"/>
            <a:ext cx="3962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915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ve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Properties of Ad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01028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86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Dec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440" y="214488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ultiplying and Dividing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29:30Z</dcterms:created>
  <dc:creator>Graham</dc:creator>
  <dc:description/>
  <dc:language>en-US</dc:language>
  <cp:lastModifiedBy>Graham</cp:lastModifiedBy>
  <dcterms:modified xsi:type="dcterms:W3CDTF">2011-08-31T23:34:45Z</dcterms:modified>
  <cp:revision>2</cp:revision>
  <dc:subject/>
  <dc:title>Lesson 1.2 Adding and Subtracting Decimals</dc:title>
</cp:coreProperties>
</file>